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F44205-9F59-4168-9B78-0920D1BD6079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5113B8-D563-4BD6-8444-1038EA4E9727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F60BA22D-1D30-4EDA-923C-87A261C5FE21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TPM alignment PH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Taipei March 23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00" y="2620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PM responsibilities and Set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0440" y="932040"/>
            <a:ext cx="8120160" cy="1086840"/>
            <a:chOff x="460440" y="932040"/>
            <a:chExt cx="8120160" cy="1086840"/>
          </a:xfrm>
        </p:grpSpPr>
        <p:sp>
          <p:nvSpPr>
            <p:cNvPr id="54" name=""/>
            <p:cNvSpPr/>
            <p:nvPr/>
          </p:nvSpPr>
          <p:spPr>
            <a:xfrm>
              <a:off x="460440" y="932040"/>
              <a:ext cx="8104320" cy="1085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60440" y="933480"/>
              <a:ext cx="8120160" cy="1085400"/>
              <a:chOff x="460440" y="933480"/>
              <a:chExt cx="8120160" cy="1085400"/>
            </a:xfrm>
          </p:grpSpPr>
          <p:sp>
            <p:nvSpPr>
              <p:cNvPr id="56" name=""/>
              <p:cNvSpPr/>
              <p:nvPr/>
            </p:nvSpPr>
            <p:spPr>
              <a:xfrm>
                <a:off x="460440" y="933480"/>
                <a:ext cx="1717560" cy="108540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085400"/>
                  <a:gd name="textAreaBottom" fmla="*/ 1085760 h 108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807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BMG PH TPM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Technical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Product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2760" y="963000"/>
                <a:ext cx="629784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Driving product realization across all Product House func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SPEED and COST focus (T2M, T2V as well as product cost, quality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Project management excell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End2end responsibility – from cradle to gr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8033040" y="13827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9200" y="2475000"/>
            <a:ext cx="777708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rganization by sit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400" y="1206360"/>
            <a:ext cx="88614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anagement Meeting structur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PC biweekly region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S25/C4; DS/C5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BOM, CoC, licenses, development co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Estimated return rate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BR biweekly glob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M2/C3; DS/C5), Q-Gat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K, price, sales margin, profit contribution,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volume, deviation against baselin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arketing plans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PM alignment meeting global biannuall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1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3320" y="942840"/>
            <a:ext cx="896436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2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2022480"/>
            <a:ext cx="8864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Deci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l sites have a similar TPM organization however, not each of the functionality needs to be implemented according to local nee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ignment of TPM Com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lead variant to be created at origin of R&amp;D loc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regional focus for VPM and GPM: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-&gt; resources are assigned according to sales regions not according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to R&amp;D location i.e. variants for a Beijing product sold in WE is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created in Europe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assignment of regions to sites is kept until further notice: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U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WE, EE, LAM, MEA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sia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PAC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split is not balanced in terms of effort (90% effort today in Europe), re-discussion on a quarterly basis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ountry split VPM / GPM between BMB and BQT for APAC tbd 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Productivity increase potential of Variant management and GPM has to be analyzed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BFl, JKu, KSa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OL management is done by site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(Beijing will take over from Europe in October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User manuals, CD, packaging, applications  to be handled by each sit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Holger Asmussen</cp:lastModifiedBy>
  <dcterms:modified xsi:type="dcterms:W3CDTF">2006-03-28T12:47:41Z</dcterms:modified>
  <cp:revision>567</cp:revision>
  <dc:subject/>
  <dc:title>All-hands meeting</dc:title>
</cp:coreProperties>
</file>